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0A5-FC70-41EE-AC64-9D6AC1FA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33C-2C76-4820-98E9-3533A935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F44-F7DF-40BB-AC07-1A50320D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F31-0891-4BC2-AFD7-89BAE822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8A66-0626-4944-A6F8-70D53575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E6BE-7DB1-4324-933D-7A10CB69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106A-37DD-4DA5-A848-42982EE1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2689-6568-46E4-8270-46B3ED57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A820-D9F7-47FF-8E3E-BC7CAB0C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EB06-5C44-44BE-B3D2-90A0C4BC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1E94-8B68-4E74-B207-88D2B2A2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358-7504-47C8-BA98-4D91D26C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6F4F-F02D-46B6-95D9-6AFA2F26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01C1-7B79-434A-8429-FC1F079B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E9AF-8270-4E8D-8881-F15B1C7D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5CBE-9A32-4067-9991-CB653394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38BE-92DB-4053-AD32-350E993A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B3D-921D-4D02-8B39-FC96884F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CB3-EFE1-425C-AD9A-E082BC14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6E6-9349-4139-A22F-5A34F264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ACB-89DA-487E-A848-81AC34F1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67F-BBFF-44D6-88F9-217E4AC4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170-C7AD-4B4B-92A1-F3A7B73B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02E-B92A-4A40-B66A-13DCF3C5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A483-CCCF-4A69-898A-35A0DB5183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CF9D-02FB-4A54-840B-7229832F97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13.3:  The Holocaus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00200" y="32004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systematic murder of 11 million people across Europe, more than half of whom were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Holocaust Victims</a:t>
            </a:r>
            <a:br>
              <a:rPr sz="4000"/>
            </a:b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1939-1945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graphicFrame>
        <p:nvGraphicFramePr>
          <p:cNvPr id="216" name="Object 3"/>
          <p:cNvGraphicFramePr/>
          <p:nvPr/>
        </p:nvGraphicFramePr>
        <p:xfrm>
          <a:off x="762120" y="1395360"/>
          <a:ext cx="8001000" cy="53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95360"/>
                    <a:ext cx="8001000" cy="53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E.  Concentration Camps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Camps in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rs”; 6,000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arding of bodies problematic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matori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Image:WW2-Holocaust-Europe.png"/>
          <p:cNvPicPr/>
          <p:nvPr/>
        </p:nvPicPr>
        <p:blipFill>
          <a:blip r:embed="rId1"/>
          <a:stretch/>
        </p:blipFill>
        <p:spPr>
          <a:xfrm>
            <a:off x="452520" y="0"/>
            <a:ext cx="82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To the right, slave labor</a:t>
            </a:r>
            <a:br>
              <a:rPr sz="3200"/>
            </a:b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To the left, gas chamber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23" name="Picture 4" descr="Selection_Birkenau_ramp"/>
          <p:cNvPicPr/>
          <p:nvPr/>
        </p:nvPicPr>
        <p:blipFill>
          <a:blip r:embed="rId1"/>
          <a:stretch/>
        </p:blipFill>
        <p:spPr>
          <a:xfrm>
            <a:off x="609480" y="1371600"/>
            <a:ext cx="69343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ww2-177"/>
          <p:cNvPicPr/>
          <p:nvPr/>
        </p:nvPicPr>
        <p:blipFill>
          <a:blip r:embed="rId1"/>
          <a:stretch/>
        </p:blipFill>
        <p:spPr>
          <a:xfrm>
            <a:off x="2138400" y="63360"/>
            <a:ext cx="48690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ww2-178"/>
          <p:cNvPicPr/>
          <p:nvPr/>
        </p:nvPicPr>
        <p:blipFill>
          <a:blip r:embed="rId1"/>
          <a:stretch/>
        </p:blipFill>
        <p:spPr>
          <a:xfrm>
            <a:off x="371520" y="9360"/>
            <a:ext cx="846756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ww2-179"/>
          <p:cNvPicPr/>
          <p:nvPr/>
        </p:nvPicPr>
        <p:blipFill>
          <a:blip r:embed="rId1"/>
          <a:stretch/>
        </p:blipFill>
        <p:spPr>
          <a:xfrm>
            <a:off x="1909800" y="63360"/>
            <a:ext cx="53262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ww2-181"/>
          <p:cNvPicPr/>
          <p:nvPr/>
        </p:nvPicPr>
        <p:blipFill>
          <a:blip r:embed="rId1"/>
          <a:stretch/>
        </p:blipFill>
        <p:spPr>
          <a:xfrm>
            <a:off x="646200" y="63360"/>
            <a:ext cx="78516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adamar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ww2-182"/>
          <p:cNvPicPr/>
          <p:nvPr/>
        </p:nvPicPr>
        <p:blipFill>
          <a:blip r:embed="rId1"/>
          <a:stretch/>
        </p:blipFill>
        <p:spPr>
          <a:xfrm>
            <a:off x="81000" y="63360"/>
            <a:ext cx="89838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ushmm.org/wlc/en/media_nm.php?MediaId=33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ww2-183"/>
          <p:cNvPicPr/>
          <p:nvPr/>
        </p:nvPicPr>
        <p:blipFill>
          <a:blip r:embed="rId1"/>
          <a:stretch/>
        </p:blipFill>
        <p:spPr>
          <a:xfrm>
            <a:off x="246240" y="63360"/>
            <a:ext cx="865152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einsatz2"/>
          <p:cNvPicPr/>
          <p:nvPr/>
        </p:nvPicPr>
        <p:blipFill>
          <a:blip r:embed="rId1"/>
          <a:stretch/>
        </p:blipFill>
        <p:spPr>
          <a:xfrm>
            <a:off x="0" y="13500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einsatz3"/>
          <p:cNvPicPr/>
          <p:nvPr/>
        </p:nvPicPr>
        <p:blipFill>
          <a:blip r:embed="rId1"/>
          <a:stretch/>
        </p:blipFill>
        <p:spPr>
          <a:xfrm>
            <a:off x="214308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.  Death Marches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34" name="Picture 3" descr="scan0001"/>
          <p:cNvPicPr/>
          <p:nvPr/>
        </p:nvPicPr>
        <p:blipFill>
          <a:blip r:embed="rId1"/>
          <a:stretch/>
        </p:blipFill>
        <p:spPr>
          <a:xfrm>
            <a:off x="0" y="1017720"/>
            <a:ext cx="891540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A.  German Forces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utzstaff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tarted as Hitler’s bodygu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 by Henrich Himm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esta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he Secret State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image 1"/>
          <p:cNvPicPr/>
          <p:nvPr/>
        </p:nvPicPr>
        <p:blipFill>
          <a:blip r:embed="rId1"/>
          <a:stretch/>
        </p:blipFill>
        <p:spPr>
          <a:xfrm>
            <a:off x="6781680" y="152280"/>
            <a:ext cx="2216160" cy="3048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Heinrich Himmler"/>
          <p:cNvPicPr/>
          <p:nvPr/>
        </p:nvPicPr>
        <p:blipFill>
          <a:blip r:embed="rId2"/>
          <a:stretch/>
        </p:blipFill>
        <p:spPr>
          <a:xfrm>
            <a:off x="4648320" y="1143000"/>
            <a:ext cx="2046240" cy="2819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File:Capturedgestapoagents.jpg"/>
          <p:cNvPicPr/>
          <p:nvPr/>
        </p:nvPicPr>
        <p:blipFill>
          <a:blip r:embed="rId3"/>
          <a:stretch/>
        </p:blipFill>
        <p:spPr>
          <a:xfrm>
            <a:off x="6629400" y="3343320"/>
            <a:ext cx="2514600" cy="2436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fb_01"/>
          <p:cNvPicPr/>
          <p:nvPr/>
        </p:nvPicPr>
        <p:blipFill>
          <a:blip r:embed="rId4"/>
          <a:stretch/>
        </p:blipFill>
        <p:spPr>
          <a:xfrm>
            <a:off x="4114800" y="4392720"/>
            <a:ext cx="24670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Gestapo controlled concentration camps; </a:t>
            </a:r>
            <a:br>
              <a:rPr sz="2800"/>
            </a:b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&lt;half of those who died here are shown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4" name="Picture 4" descr="File:Rows of bodies of dead inmates fill the yard of Lager Nordhausen, a Gestapo concentration camp.jpg"/>
          <p:cNvPicPr/>
          <p:nvPr/>
        </p:nvPicPr>
        <p:blipFill>
          <a:blip r:embed="rId1"/>
          <a:stretch/>
        </p:blipFill>
        <p:spPr>
          <a:xfrm>
            <a:off x="685800" y="1193760"/>
            <a:ext cx="72388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B.  Why the Jews?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616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remberg Law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in 1935, whic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ipped Jews of their _____  rights and property if they tried to leave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ristallnac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rystal night (19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  German ambassador to France killed by a German J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   Nazi troops destroyed Jewish __ &amp; 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    &gt;200 killed in on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86838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goebbels1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Sh04"/>
          <p:cNvPicPr/>
          <p:nvPr/>
        </p:nvPicPr>
        <p:blipFill>
          <a:blip r:embed="rId1"/>
          <a:stretch/>
        </p:blipFill>
        <p:spPr>
          <a:xfrm>
            <a:off x="0" y="42552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.  Where can the Jews go?</a:t>
            </a:r>
            <a:br>
              <a:rPr sz="4000"/>
            </a:b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(1933)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gee proble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otas on immi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Origins Act of 1929; limited immigration to 150,000 in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, depression, refuge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these conn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D.  The Final Solution: Genocide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emned: Jews and any other seen as _______, i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  Political opponents – communists, socia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  Religious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   Homosex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   Disabled; mentally, phys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 in cold bl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ved ghet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to labor/concentration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medical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2-27T13:49:2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